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A92D-38ED-4F78-9851-97B9C1213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6AF4-ED4A-4CE6-920F-4FD06E9E9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594E-B034-40E8-93F2-E682466C6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7C8-B1DF-4823-971C-EDDBE3A68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CF04-D3B6-4AE3-A5CC-DAF2DE10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7B5A-0AEA-484A-9B1A-C2B35BCC9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DC0F-DE83-4450-895F-060921B08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7688-0230-4C0B-B18B-4EACD8F56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FBE0-8978-459C-9F52-71897AB4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7990-4F55-433E-A26F-712B49D7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E5BC-649D-4246-B3E7-F44CFDFA7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FBC3-B1D6-4AAC-A340-53AD7838B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17830-B833-4927-95B0-614AEFA1F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287F-AB28-4C48-98D2-B6092F4BF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924A-4F5B-4C2D-A041-0CBB00DD5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579F-0336-4BB3-A4E1-74B3D1FDFD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B646-4B80-46C0-B1FC-0B243B0A6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852-C72E-41C5-804C-53554C84B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D606-B468-4A4A-9F87-32E8E5559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9C09-56E7-46B3-9A7D-C6E0ED329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E419-F913-49C4-8FC3-69D1D0EA7B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D667C-1E21-4E51-B563-C2363F318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4FEA-B25C-4DD3-A6A3-2F3CD6D39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178A-2448-4EF2-8F35-685389017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E6AB-1310-4293-9B92-073146F7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4734A-9744-49DB-8E1F-3931CE57E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4B67-B5AF-4A2B-A359-8ED0AF16B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078E-1C1A-489B-9A61-DB52AF206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0270-AC9E-411F-B3AA-F07757F17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4336-486E-4C1E-ABB7-9B8B40B13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B38C-8BF2-4FA6-A5A7-8CC4360DE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FF96-5E24-4152-8FF8-9DB4BE775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E66A-BD4E-42A0-B014-34BA210EB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583E-49A7-4FC2-A207-2C373C88C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6ED5-2BF2-444A-B0D2-73F6D63DB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A5FC-51C3-481E-A6BF-71B68EC2F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E3A-79FB-41B7-89B2-CC7D0E909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D401-9081-4273-BCCF-E9746A693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09DD8-A0C7-498F-A310-7CF871850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2792-6EBD-4A12-8BB7-31394371E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C116-BD80-4C1A-B7B0-90635344B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2294-B0E6-4864-BF53-6EC47BC81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7080-BDEA-4363-B4A8-2D3AE2D64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08FF-4CB7-4E38-814B-A3CC7573E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2858-5736-4BCD-AEF3-9078F81B2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68F-80E8-4B3F-9976-3B5D4DD74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C627-FC9B-41DF-8FF2-64D9B8E56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847D-D21F-4CE8-BF5F-61C44CAE9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B21-F334-4AAB-92A5-6BC3B7BD4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2C4B-FA85-4377-8A41-AD1420BDF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0A4-1DE7-49EE-8211-0A075E14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A73-0604-4918-B258-30674911C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7FC1-94DD-4FE0-8077-050C06E4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16F0-E6EE-4FCF-9EC8-02DD25CC9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69FD-BF6E-4011-8534-A70FD98A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0F63-C376-43B0-B955-C38AFFBF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01A12-E33E-4128-9E5B-AC59A2EA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4580-AF6E-4C52-9DD9-70A793A9A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D932-4401-40EA-8EC8-47D18A81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99AA-09F8-486C-852F-D57F88BF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88F-682E-459F-BC5D-DC42CBEA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17A2-2E4A-4762-8BB6-62E67508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EFBF-5865-4F4B-96B0-EA06CA9F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F912-BD80-414A-9237-0CE87C5B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1827-1455-473D-BF55-B294CA553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A212-C881-4926-B64C-8EF0F57B2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F9809-2594-42A8-A226-C0607C65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327EC-1BDB-454E-84E9-6C376860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D97F-1755-468F-83C1-28DD32E2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10619-EAFD-4C47-9C3C-CFA1E240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0A2BF-E00A-4E67-9119-233525D3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619A-5462-449E-BE9D-5AB50877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B37DD-C67B-468E-BB09-A3C850B3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5323A-4262-422D-98F0-511842AD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5D39-4CE4-43D7-AEDF-7772F7C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E7545-B87D-4968-8326-AE1976CC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5F0A6-1587-4CE2-8AEE-E212A7C7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B7892-3794-4505-8344-685E2E68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AB27-44E5-448B-B312-7FA7A237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A8CBE-EFCE-449F-8235-11438AD6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CBCAF-F50D-4B91-BAF9-3A722CE9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15A6-2467-43FE-AC2E-CC8260BA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F49-D876-4C6F-84EA-8D37FFAE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87614-8855-400B-B9ED-6F2FB30E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16616-0A40-4CFE-8C1E-60EFC6739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022C-8AF1-489A-A644-87AAAC52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AEECB-BD93-4936-BC1B-2E83BC53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B0D76-C77B-4AA1-8F27-E11DCD2C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35824-D010-47DD-B856-EE4F571C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7E24-DDE3-49CD-8A0E-0687BDCA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57FD4-5700-4D8C-A7BE-5B430F1BC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5582C-7A34-48D0-A354-0E2FE92D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819893-9682-406C-A4E8-F7CF51A4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719-0C1C-4F17-9968-2E3F3AF8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4BF2-1AAE-440D-923E-0B2B4262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B33F1-FB28-46E4-B8DD-5782FB03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1DBD8-FF4B-4E22-843F-997C381A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899B0-BE92-4C36-B9DE-D962FF98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A38CD-1147-4BB4-B626-69302074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8596B-F617-475C-8CAE-EF845E1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F6E2-A537-4056-9BBB-C3D61E9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7821-8F73-4632-AC7E-DE5C6923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346BE-C8BF-462B-A964-01A5089F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728E3-061B-4EE9-9F32-6EAD8141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C30-652C-4383-B2BD-68CD3F43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1E37D-7143-4719-A579-B57423E3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51667-9CA5-4206-9B3F-A2F5F38B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1EC82-CE5E-4076-ADBC-5E79184B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92542-1D7A-4999-9321-0EAF1997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4EB19-ACFD-4C8A-B13B-C632F96B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EA7D-42EC-431C-A708-C09FAC20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AD68E-0C10-4EBB-AB8C-3DB79B9C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6D8C4-2387-419D-A97F-0B26C7B4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37477-ADBE-4FFD-B2B7-B9E2CB06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9DC8D-C0E1-47F8-9D9B-D325007F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4B7-4FD4-48C6-95EA-E521E3EB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75D24-A157-46FA-91CA-2D774A62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6B32D-7690-42AE-9915-899DD474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297D9-B880-4EAA-8DC2-F29060F96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1A306-340D-4367-B83E-CC0A30B6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A66F28-EB7D-4658-8113-A60446FE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75405-DCC4-42B0-882E-A6FB1E31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864BF-980D-41F3-B132-7EB29B15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9ECD-CC84-484F-A6F9-0DEFC3107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25123-5E63-4592-B7A3-37C3044C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3C14D-E588-4BB8-A587-10DB6F9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DF0-959D-4FEE-8A5F-5773D693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39FD8-5C54-4C8B-BD48-23A99232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F74AD-9381-4409-9CFE-7D73FEA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3F0AC-BA02-4CAB-A2F5-68C91759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35642-A28F-478C-8E64-B61A4F881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7C7C4-E187-4709-A592-3DDA84B9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06E-6B45-4BE2-8A7C-2E922C7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C2B0-803C-48AD-9DFD-C6BFE7ECED5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60E0-652D-47A5-9187-D1050190A8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E090-D184-415E-B072-88E6AABD578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C9EF-B727-409F-97AA-F9CE122A31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9C31-44E4-44E9-909A-77A3EE98C811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C3FB-14BC-465C-A231-4D2BD3AEEE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5034-6857-4AA7-9739-9680E5F1439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E40E-BD63-454E-8DEA-812D81FB18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5BD5-A961-43CB-84B7-61AF4B49DE4A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37052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3521-3B43-4856-B01B-9FE16A330BF5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087F-6BFC-4659-B4FD-1F8D43DE374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FD34-79AC-48EF-BBDE-2AD4A4B0DA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9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7FA1-E00E-4774-BC44-4D7FB5A36DF9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5BD8-D10D-403C-B1DC-86C9A3143D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Candara"/>
              </a:rPr>
              <a:t>Lecture 7</a:t>
            </a:r>
            <a:br>
              <a:rPr sz="4000"/>
            </a:br>
            <a:r>
              <a:rPr b="1" lang="en-US" sz="4000" spc="-1" strike="noStrike">
                <a:solidFill>
                  <a:srgbClr val="262626"/>
                </a:solidFill>
                <a:latin typeface="Candara"/>
              </a:rPr>
              <a:t>How computers process data (Number Systems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DFB9F-C99A-415A-9B7A-67557244C3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341280"/>
            <a:ext cx="7543800" cy="72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ndara"/>
              </a:rPr>
              <a:t>Binary to Decim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7"/>
          <p:cNvSpPr/>
          <p:nvPr/>
        </p:nvSpPr>
        <p:spPr>
          <a:xfrm flipV="1">
            <a:off x="2514600" y="2708280"/>
            <a:ext cx="0" cy="129528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ADCD-2EEF-4C75-8145-B7A062FA63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1880" y="53352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Binary to Decimal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echniqu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Multiply each bit by 2</a:t>
            </a:r>
            <a:r>
              <a:rPr b="0" i="1" lang="en-US" sz="3200" spc="-1" strike="noStrike" baseline="30000">
                <a:solidFill>
                  <a:srgbClr val="404040"/>
                </a:solidFill>
                <a:latin typeface="Candara"/>
              </a:rPr>
              <a:t>n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, where </a:t>
            </a:r>
            <a:r>
              <a:rPr b="0" i="1" lang="en-US" sz="2000" spc="-1" strike="noStrike">
                <a:solidFill>
                  <a:srgbClr val="404040"/>
                </a:solidFill>
                <a:latin typeface="Candara"/>
              </a:rPr>
              <a:t>n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 is the “weight” of the bi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The weight is the position of the bit, starting from 0 on the righ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Add the resul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6B1C-C9D3-4235-8B5E-C1403B51AC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Example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1828800" y="2438280"/>
            <a:ext cx="6629400" cy="35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"/>
          <p:cNvSpPr/>
          <p:nvPr/>
        </p:nvSpPr>
        <p:spPr>
          <a:xfrm>
            <a:off x="5867280" y="4724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7"/>
          <p:cNvSpPr/>
          <p:nvPr/>
        </p:nvSpPr>
        <p:spPr>
          <a:xfrm>
            <a:off x="2025720" y="1266840"/>
            <a:ext cx="1371600" cy="685800"/>
          </a:xfrm>
          <a:prstGeom prst="wedgeRoundRectCallout">
            <a:avLst>
              <a:gd name="adj1" fmla="val 15972"/>
              <a:gd name="adj2" fmla="val 125000"/>
              <a:gd name="adj3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 “0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D86-59BE-42B3-A4D8-CABBDF8C93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Octal to Decimal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7"/>
          <p:cNvSpPr/>
          <p:nvPr/>
        </p:nvSpPr>
        <p:spPr>
          <a:xfrm flipH="1">
            <a:off x="3886200" y="2286000"/>
            <a:ext cx="1333440" cy="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187C-8D66-480A-B845-C560BEFC6D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3805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Octal to Decimal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Multiply each bit by 8</a:t>
            </a:r>
            <a:r>
              <a:rPr b="0" i="1" lang="en-US" sz="2000" spc="-1" strike="noStrike" baseline="30000">
                <a:solidFill>
                  <a:srgbClr val="404040"/>
                </a:solidFill>
                <a:latin typeface="Candara"/>
              </a:rPr>
              <a:t>n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, where </a:t>
            </a:r>
            <a:r>
              <a:rPr b="0" i="1" lang="en-US" sz="2000" spc="-1" strike="noStrike">
                <a:solidFill>
                  <a:srgbClr val="404040"/>
                </a:solidFill>
                <a:latin typeface="Candara"/>
              </a:rPr>
              <a:t>n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 is the “weight” of the bi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The weight is the position of the bit, starting from 0 on the righ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Add the resul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4DB1-E627-4685-9826-0F25B2D428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9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Example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1828800" y="2638440"/>
            <a:ext cx="66294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2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4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1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 x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4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6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562720" y="37814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697F-ECC6-4D9B-8995-C65C35B391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Hexadecimal to Decimal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7"/>
          <p:cNvSpPr/>
          <p:nvPr/>
        </p:nvSpPr>
        <p:spPr>
          <a:xfrm flipH="1" flipV="1">
            <a:off x="3733560" y="2743200"/>
            <a:ext cx="1523880" cy="144792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FFD7-33E0-4B45-80D5-B073EF73A7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457200"/>
            <a:ext cx="7543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ndara"/>
              </a:rPr>
              <a:t>Hexadecimal to Decimal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Multiply each bit by 16</a:t>
            </a:r>
            <a:r>
              <a:rPr b="0" i="1" lang="en-US" sz="2000" spc="-1" strike="noStrike" baseline="30000">
                <a:solidFill>
                  <a:srgbClr val="404040"/>
                </a:solidFill>
                <a:latin typeface="Candara"/>
              </a:rPr>
              <a:t>n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, where </a:t>
            </a:r>
            <a:r>
              <a:rPr b="0" i="1" lang="en-US" sz="2000" spc="-1" strike="noStrike">
                <a:solidFill>
                  <a:srgbClr val="404040"/>
                </a:solidFill>
                <a:latin typeface="Candara"/>
              </a:rPr>
              <a:t>n</a:t>
            </a: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 is the “weight” of the bi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The weight is the position of the bit, starting from 0 on the righ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Add the resul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ECA2-7F60-4FEE-B6B0-DFC47BB0863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Example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1219320" y="2760840"/>
            <a:ext cx="7086600" cy="18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2 x   1 =   1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 x  16 =  17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x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0 x 256 = 25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74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4"/>
          <p:cNvSpPr/>
          <p:nvPr/>
        </p:nvSpPr>
        <p:spPr>
          <a:xfrm>
            <a:off x="6781680" y="393228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88EC-DE6F-4C2C-BC78-B298FD84E3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Decimal to Binary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5" name="Oval 1027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1028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029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1030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031"/>
          <p:cNvSpPr/>
          <p:nvPr/>
        </p:nvSpPr>
        <p:spPr>
          <a:xfrm>
            <a:off x="2438280" y="2895480"/>
            <a:ext cx="0" cy="106704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0BBB-6D49-4EF0-A008-DF37A4512E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Common Number Systems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066680" y="2057400"/>
          <a:ext cx="6934320" cy="3294000"/>
        </p:xfrm>
        <a:graphic>
          <a:graphicData uri="http://schemas.openxmlformats.org/drawingml/2006/table">
            <a:tbl>
              <a:tblPr/>
              <a:tblGrid>
                <a:gridCol w="1346400"/>
                <a:gridCol w="850680"/>
                <a:gridCol w="1565280"/>
                <a:gridCol w="1387440"/>
                <a:gridCol w="1784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Symb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sed by human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sed in computers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 1, …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 1, …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exa-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, 1, … 9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, B, … 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E866-1A18-4CBE-95E0-25FCCE782C79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21880" y="53352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ndara"/>
              </a:rPr>
              <a:t>Decimal to Binary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ndara"/>
              </a:rPr>
              <a:t>Techniqu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Divide by two, keep track of the remaind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First remainder is bit 0 (LSB, least-significant bit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Second remainder is bit 1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Etc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9979-3056-46BF-BC09-AACF0B2F494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Example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7" name="Text Box 1027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1028"/>
          <p:cNvGrpSpPr/>
          <p:nvPr/>
        </p:nvGrpSpPr>
        <p:grpSpPr>
          <a:xfrm>
            <a:off x="3543480" y="1295280"/>
            <a:ext cx="2057400" cy="825480"/>
            <a:chOff x="3543480" y="1295280"/>
            <a:chExt cx="2057400" cy="825480"/>
          </a:xfrm>
        </p:grpSpPr>
        <p:sp>
          <p:nvSpPr>
            <p:cNvPr id="429" name="Text Box 1029"/>
            <p:cNvSpPr/>
            <p:nvPr/>
          </p:nvSpPr>
          <p:spPr>
            <a:xfrm>
              <a:off x="3543480" y="12952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125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62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1030"/>
            <p:cNvSpPr/>
            <p:nvPr/>
          </p:nvSpPr>
          <p:spPr>
            <a:xfrm>
              <a:off x="3886200" y="1371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1031"/>
            <p:cNvSpPr/>
            <p:nvPr/>
          </p:nvSpPr>
          <p:spPr>
            <a:xfrm>
              <a:off x="3886200" y="16765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032"/>
          <p:cNvGrpSpPr/>
          <p:nvPr/>
        </p:nvGrpSpPr>
        <p:grpSpPr>
          <a:xfrm>
            <a:off x="3543480" y="1676520"/>
            <a:ext cx="2057400" cy="825480"/>
            <a:chOff x="3543480" y="1676520"/>
            <a:chExt cx="2057400" cy="825480"/>
          </a:xfrm>
        </p:grpSpPr>
        <p:sp>
          <p:nvSpPr>
            <p:cNvPr id="433" name="Text Box 1033"/>
            <p:cNvSpPr/>
            <p:nvPr/>
          </p:nvSpPr>
          <p:spPr>
            <a:xfrm>
              <a:off x="3543480" y="16765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31  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1034"/>
            <p:cNvSpPr/>
            <p:nvPr/>
          </p:nvSpPr>
          <p:spPr>
            <a:xfrm>
              <a:off x="3886200" y="1752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1035"/>
            <p:cNvSpPr/>
            <p:nvPr/>
          </p:nvSpPr>
          <p:spPr>
            <a:xfrm>
              <a:off x="3886200" y="20574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1036"/>
          <p:cNvGrpSpPr/>
          <p:nvPr/>
        </p:nvGrpSpPr>
        <p:grpSpPr>
          <a:xfrm>
            <a:off x="3543480" y="2057400"/>
            <a:ext cx="2057400" cy="825480"/>
            <a:chOff x="3543480" y="2057400"/>
            <a:chExt cx="2057400" cy="825480"/>
          </a:xfrm>
        </p:grpSpPr>
        <p:sp>
          <p:nvSpPr>
            <p:cNvPr id="437" name="Text Box 1037"/>
            <p:cNvSpPr/>
            <p:nvPr/>
          </p:nvSpPr>
          <p:spPr>
            <a:xfrm>
              <a:off x="3543480" y="205740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15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1038"/>
            <p:cNvSpPr/>
            <p:nvPr/>
          </p:nvSpPr>
          <p:spPr>
            <a:xfrm>
              <a:off x="3886200" y="21337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1039"/>
            <p:cNvSpPr/>
            <p:nvPr/>
          </p:nvSpPr>
          <p:spPr>
            <a:xfrm>
              <a:off x="3886200" y="24382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Group 1040"/>
          <p:cNvGrpSpPr/>
          <p:nvPr/>
        </p:nvGrpSpPr>
        <p:grpSpPr>
          <a:xfrm>
            <a:off x="3527280" y="2451240"/>
            <a:ext cx="2057400" cy="825480"/>
            <a:chOff x="3527280" y="2451240"/>
            <a:chExt cx="2057400" cy="825480"/>
          </a:xfrm>
        </p:grpSpPr>
        <p:sp>
          <p:nvSpPr>
            <p:cNvPr id="441" name="Text Box 1041"/>
            <p:cNvSpPr/>
            <p:nvPr/>
          </p:nvSpPr>
          <p:spPr>
            <a:xfrm>
              <a:off x="3527280" y="24512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7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042"/>
            <p:cNvSpPr/>
            <p:nvPr/>
          </p:nvSpPr>
          <p:spPr>
            <a:xfrm>
              <a:off x="3908160" y="25272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043"/>
            <p:cNvSpPr/>
            <p:nvPr/>
          </p:nvSpPr>
          <p:spPr>
            <a:xfrm>
              <a:off x="3908160" y="28321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1044"/>
          <p:cNvGrpSpPr/>
          <p:nvPr/>
        </p:nvGrpSpPr>
        <p:grpSpPr>
          <a:xfrm>
            <a:off x="3559320" y="2846520"/>
            <a:ext cx="2057400" cy="825480"/>
            <a:chOff x="3559320" y="2846520"/>
            <a:chExt cx="2057400" cy="825480"/>
          </a:xfrm>
        </p:grpSpPr>
        <p:sp>
          <p:nvSpPr>
            <p:cNvPr id="445" name="Text Box 1045"/>
            <p:cNvSpPr/>
            <p:nvPr/>
          </p:nvSpPr>
          <p:spPr>
            <a:xfrm>
              <a:off x="3559320" y="284652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3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1046"/>
            <p:cNvSpPr/>
            <p:nvPr/>
          </p:nvSpPr>
          <p:spPr>
            <a:xfrm>
              <a:off x="3902040" y="29224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1047"/>
            <p:cNvSpPr/>
            <p:nvPr/>
          </p:nvSpPr>
          <p:spPr>
            <a:xfrm>
              <a:off x="3902040" y="322740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1048"/>
          <p:cNvGrpSpPr/>
          <p:nvPr/>
        </p:nvGrpSpPr>
        <p:grpSpPr>
          <a:xfrm>
            <a:off x="3559320" y="3228840"/>
            <a:ext cx="2057400" cy="825480"/>
            <a:chOff x="3559320" y="3228840"/>
            <a:chExt cx="2057400" cy="825480"/>
          </a:xfrm>
        </p:grpSpPr>
        <p:sp>
          <p:nvSpPr>
            <p:cNvPr id="449" name="Text Box 1049"/>
            <p:cNvSpPr/>
            <p:nvPr/>
          </p:nvSpPr>
          <p:spPr>
            <a:xfrm>
              <a:off x="3559320" y="32288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1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1050"/>
            <p:cNvSpPr/>
            <p:nvPr/>
          </p:nvSpPr>
          <p:spPr>
            <a:xfrm>
              <a:off x="3902040" y="326880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1051"/>
            <p:cNvSpPr/>
            <p:nvPr/>
          </p:nvSpPr>
          <p:spPr>
            <a:xfrm>
              <a:off x="3902040" y="361008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Group 1052"/>
          <p:cNvGrpSpPr/>
          <p:nvPr/>
        </p:nvGrpSpPr>
        <p:grpSpPr>
          <a:xfrm>
            <a:off x="3543480" y="3610080"/>
            <a:ext cx="2057400" cy="825480"/>
            <a:chOff x="3543480" y="3610080"/>
            <a:chExt cx="2057400" cy="825480"/>
          </a:xfrm>
        </p:grpSpPr>
        <p:sp>
          <p:nvSpPr>
            <p:cNvPr id="453" name="Text Box 1053"/>
            <p:cNvSpPr/>
            <p:nvPr/>
          </p:nvSpPr>
          <p:spPr>
            <a:xfrm>
              <a:off x="3543480" y="36100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0  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054"/>
            <p:cNvSpPr/>
            <p:nvPr/>
          </p:nvSpPr>
          <p:spPr>
            <a:xfrm>
              <a:off x="3886200" y="36860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055"/>
            <p:cNvSpPr/>
            <p:nvPr/>
          </p:nvSpPr>
          <p:spPr>
            <a:xfrm>
              <a:off x="3886200" y="399096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Text Box 1056"/>
          <p:cNvSpPr/>
          <p:nvPr/>
        </p:nvSpPr>
        <p:spPr>
          <a:xfrm>
            <a:off x="5486400" y="5181480"/>
            <a:ext cx="32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1057"/>
          <p:cNvSpPr/>
          <p:nvPr/>
        </p:nvSpPr>
        <p:spPr>
          <a:xfrm>
            <a:off x="5454720" y="1828800"/>
            <a:ext cx="2819160" cy="3276720"/>
          </a:xfrm>
          <a:custGeom>
            <a:avLst/>
            <a:gdLst/>
            <a:ahLst/>
            <a:rect l="l" t="t" r="r" b="b"/>
            <a:pathLst>
              <a:path w="1776" h="2064">
                <a:moveTo>
                  <a:pt x="0" y="0"/>
                </a:moveTo>
                <a:cubicBezTo>
                  <a:pt x="173" y="68"/>
                  <a:pt x="740" y="64"/>
                  <a:pt x="1036" y="408"/>
                </a:cubicBezTo>
                <a:cubicBezTo>
                  <a:pt x="1332" y="752"/>
                  <a:pt x="1622" y="1719"/>
                  <a:pt x="1776" y="206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B950-297A-4477-A246-AD4D263E8B1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Octal to Binary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1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7"/>
          <p:cNvSpPr/>
          <p:nvPr/>
        </p:nvSpPr>
        <p:spPr>
          <a:xfrm flipH="1">
            <a:off x="3809880" y="2743200"/>
            <a:ext cx="1524240" cy="144792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23C2-EABD-4315-9322-BEE1253824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Octal to Binary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Convert each octal digit to a 3-bit equivalent binary represent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7750-87A8-40D6-8141-70036766AD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Example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3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Group 4"/>
          <p:cNvGrpSpPr/>
          <p:nvPr/>
        </p:nvGrpSpPr>
        <p:grpSpPr>
          <a:xfrm>
            <a:off x="3505320" y="2666880"/>
            <a:ext cx="2666880" cy="1572120"/>
            <a:chOff x="3505320" y="2666880"/>
            <a:chExt cx="2666880" cy="1572120"/>
          </a:xfrm>
        </p:grpSpPr>
        <p:sp>
          <p:nvSpPr>
            <p:cNvPr id="475" name="Text Box 5"/>
            <p:cNvSpPr/>
            <p:nvPr/>
          </p:nvSpPr>
          <p:spPr>
            <a:xfrm>
              <a:off x="3505320" y="2666880"/>
              <a:ext cx="2666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   0  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11 000 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6"/>
            <p:cNvSpPr/>
            <p:nvPr/>
          </p:nvSpPr>
          <p:spPr>
            <a:xfrm>
              <a:off x="3809880" y="3124080"/>
              <a:ext cx="0" cy="60984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7"/>
            <p:cNvSpPr/>
            <p:nvPr/>
          </p:nvSpPr>
          <p:spPr>
            <a:xfrm>
              <a:off x="4572000" y="3124080"/>
              <a:ext cx="0" cy="60984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8"/>
            <p:cNvSpPr/>
            <p:nvPr/>
          </p:nvSpPr>
          <p:spPr>
            <a:xfrm>
              <a:off x="5334120" y="3124080"/>
              <a:ext cx="0" cy="60984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Text Box 9"/>
          <p:cNvSpPr/>
          <p:nvPr/>
        </p:nvSpPr>
        <p:spPr>
          <a:xfrm>
            <a:off x="5181480" y="5257800"/>
            <a:ext cx="3581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0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1100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B3FD-334A-4919-A5AE-9AC3789D55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exadecimal to Binar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7"/>
          <p:cNvSpPr/>
          <p:nvPr/>
        </p:nvSpPr>
        <p:spPr>
          <a:xfrm flipH="1">
            <a:off x="3924360" y="4495680"/>
            <a:ext cx="1295280" cy="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FA9E-EFCD-405E-B7B4-07B335ADA0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exadecimal to Binar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nvert each hexadecimal digit to a 4-bit equivalent binary represent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FF8D-D394-4523-87A8-4444349C16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ampl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2819520" y="2666880"/>
            <a:ext cx="3809880" cy="1572120"/>
            <a:chOff x="2819520" y="2666880"/>
            <a:chExt cx="3809880" cy="1572120"/>
          </a:xfrm>
        </p:grpSpPr>
        <p:sp>
          <p:nvSpPr>
            <p:cNvPr id="497" name="Text Box 5"/>
            <p:cNvSpPr/>
            <p:nvPr/>
          </p:nvSpPr>
          <p:spPr>
            <a:xfrm>
              <a:off x="2819520" y="2666880"/>
              <a:ext cx="38098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A    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0000 1010 1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6"/>
            <p:cNvSpPr/>
            <p:nvPr/>
          </p:nvSpPr>
          <p:spPr>
            <a:xfrm>
              <a:off x="3200400" y="3124080"/>
              <a:ext cx="0" cy="60984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7"/>
            <p:cNvSpPr/>
            <p:nvPr/>
          </p:nvSpPr>
          <p:spPr>
            <a:xfrm>
              <a:off x="4114800" y="3124080"/>
              <a:ext cx="0" cy="60984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8"/>
            <p:cNvSpPr/>
            <p:nvPr/>
          </p:nvSpPr>
          <p:spPr>
            <a:xfrm>
              <a:off x="5029200" y="3124080"/>
              <a:ext cx="0" cy="60984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"/>
            <p:cNvSpPr/>
            <p:nvPr/>
          </p:nvSpPr>
          <p:spPr>
            <a:xfrm>
              <a:off x="6019920" y="3124080"/>
              <a:ext cx="0" cy="60984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Text Box 10"/>
          <p:cNvSpPr/>
          <p:nvPr/>
        </p:nvSpPr>
        <p:spPr>
          <a:xfrm>
            <a:off x="4038480" y="533412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A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0001000010101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C2CF-F5A2-4682-B0A5-0364BF116B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Decimal to Oct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7"/>
          <p:cNvSpPr/>
          <p:nvPr/>
        </p:nvSpPr>
        <p:spPr>
          <a:xfrm>
            <a:off x="3924360" y="2362320"/>
            <a:ext cx="1295280" cy="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19AB-1414-42E4-9CF3-F896567FC9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Decimal to Oct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ivide by 8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Keep track of the remaind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5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D808-BE6B-459F-BC66-5EDA995809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Quantities/Counting (1 of 3)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209680" y="1371600"/>
          <a:ext cx="4724640" cy="455292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990720"/>
                <a:gridCol w="1219320"/>
              </a:tblGrid>
              <a:tr h="8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exa-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2C92-DD05-434F-B5F3-45817B957330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ampl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04920" y="137160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3095640" y="235260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  12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54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5"/>
          <p:cNvSpPr/>
          <p:nvPr/>
        </p:nvSpPr>
        <p:spPr>
          <a:xfrm>
            <a:off x="3949560" y="2438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6"/>
          <p:cNvSpPr/>
          <p:nvPr/>
        </p:nvSpPr>
        <p:spPr>
          <a:xfrm>
            <a:off x="3949560" y="2743200"/>
            <a:ext cx="1067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3078000" y="2743200"/>
            <a:ext cx="3106800" cy="825480"/>
            <a:chOff x="3078000" y="2743200"/>
            <a:chExt cx="3106800" cy="825480"/>
          </a:xfrm>
        </p:grpSpPr>
        <p:sp>
          <p:nvSpPr>
            <p:cNvPr id="523" name="Text Box 8"/>
            <p:cNvSpPr/>
            <p:nvPr/>
          </p:nvSpPr>
          <p:spPr>
            <a:xfrm>
              <a:off x="3078000" y="274320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9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"/>
            <p:cNvSpPr/>
            <p:nvPr/>
          </p:nvSpPr>
          <p:spPr>
            <a:xfrm>
              <a:off x="3931920" y="282852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10"/>
            <p:cNvSpPr/>
            <p:nvPr/>
          </p:nvSpPr>
          <p:spPr>
            <a:xfrm>
              <a:off x="3931920" y="313344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Group 11"/>
          <p:cNvGrpSpPr/>
          <p:nvPr/>
        </p:nvGrpSpPr>
        <p:grpSpPr>
          <a:xfrm>
            <a:off x="3081240" y="3139920"/>
            <a:ext cx="3106800" cy="825480"/>
            <a:chOff x="3081240" y="3139920"/>
            <a:chExt cx="3106800" cy="825480"/>
          </a:xfrm>
        </p:grpSpPr>
        <p:sp>
          <p:nvSpPr>
            <p:cNvPr id="527" name="Text Box 12"/>
            <p:cNvSpPr/>
            <p:nvPr/>
          </p:nvSpPr>
          <p:spPr>
            <a:xfrm>
              <a:off x="3081240" y="31399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3"/>
            <p:cNvSpPr/>
            <p:nvPr/>
          </p:nvSpPr>
          <p:spPr>
            <a:xfrm>
              <a:off x="3935160" y="32256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4"/>
            <p:cNvSpPr/>
            <p:nvPr/>
          </p:nvSpPr>
          <p:spPr>
            <a:xfrm>
              <a:off x="3935160" y="353052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15"/>
          <p:cNvGrpSpPr/>
          <p:nvPr/>
        </p:nvGrpSpPr>
        <p:grpSpPr>
          <a:xfrm>
            <a:off x="3081240" y="3530520"/>
            <a:ext cx="3106800" cy="825480"/>
            <a:chOff x="3081240" y="3530520"/>
            <a:chExt cx="3106800" cy="825480"/>
          </a:xfrm>
        </p:grpSpPr>
        <p:sp>
          <p:nvSpPr>
            <p:cNvPr id="531" name="Text Box 16"/>
            <p:cNvSpPr/>
            <p:nvPr/>
          </p:nvSpPr>
          <p:spPr>
            <a:xfrm>
              <a:off x="3081240" y="3530520"/>
              <a:ext cx="3106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7"/>
            <p:cNvSpPr/>
            <p:nvPr/>
          </p:nvSpPr>
          <p:spPr>
            <a:xfrm>
              <a:off x="3935160" y="361584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18"/>
            <p:cNvSpPr/>
            <p:nvPr/>
          </p:nvSpPr>
          <p:spPr>
            <a:xfrm>
              <a:off x="3935160" y="3920760"/>
              <a:ext cx="1066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 Box 19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Freeform 20"/>
          <p:cNvSpPr/>
          <p:nvPr/>
        </p:nvSpPr>
        <p:spPr>
          <a:xfrm>
            <a:off x="5867280" y="2895480"/>
            <a:ext cx="2514600" cy="2057400"/>
          </a:xfrm>
          <a:custGeom>
            <a:avLst/>
            <a:gdLst/>
            <a:ahLst/>
            <a:rect l="l" t="t" r="r" b="b"/>
            <a:pathLst>
              <a:path w="1584" h="1296">
                <a:moveTo>
                  <a:pt x="0" y="0"/>
                </a:moveTo>
                <a:cubicBezTo>
                  <a:pt x="154" y="48"/>
                  <a:pt x="663" y="75"/>
                  <a:pt x="927" y="291"/>
                </a:cubicBezTo>
                <a:cubicBezTo>
                  <a:pt x="1191" y="507"/>
                  <a:pt x="1447" y="1087"/>
                  <a:pt x="1584" y="1296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7446-D813-477E-984A-97796D40C9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Decimal to Hexadecim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9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7"/>
          <p:cNvSpPr/>
          <p:nvPr/>
        </p:nvSpPr>
        <p:spPr>
          <a:xfrm>
            <a:off x="3657600" y="2666880"/>
            <a:ext cx="1676520" cy="152424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25C4-529C-4EEA-8C30-204DA904AD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Decimal to Hexadecim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ivide by 1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Keep track of the remainde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6E6A-114D-4F96-954D-5FF553ED42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5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ampl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304920" y="13716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6019920" y="5029200"/>
            <a:ext cx="289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3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4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reeform 5"/>
          <p:cNvSpPr/>
          <p:nvPr/>
        </p:nvSpPr>
        <p:spPr>
          <a:xfrm>
            <a:off x="5867280" y="2776680"/>
            <a:ext cx="2395800" cy="2211120"/>
          </a:xfrm>
          <a:custGeom>
            <a:avLst/>
            <a:gdLst/>
            <a:ahLst/>
            <a:rect l="l" t="t" r="r" b="b"/>
            <a:pathLst>
              <a:path w="1509" h="1393">
                <a:moveTo>
                  <a:pt x="0" y="75"/>
                </a:moveTo>
                <a:cubicBezTo>
                  <a:pt x="173" y="99"/>
                  <a:pt x="787" y="0"/>
                  <a:pt x="1038" y="220"/>
                </a:cubicBezTo>
                <a:cubicBezTo>
                  <a:pt x="1302" y="436"/>
                  <a:pt x="1411" y="1149"/>
                  <a:pt x="1509" y="1393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Group 6"/>
          <p:cNvGrpSpPr/>
          <p:nvPr/>
        </p:nvGrpSpPr>
        <p:grpSpPr>
          <a:xfrm>
            <a:off x="3276720" y="2352600"/>
            <a:ext cx="3581280" cy="1596960"/>
            <a:chOff x="3276720" y="2352600"/>
            <a:chExt cx="3581280" cy="1596960"/>
          </a:xfrm>
        </p:grpSpPr>
        <p:sp>
          <p:nvSpPr>
            <p:cNvPr id="555" name="Text Box 7"/>
            <p:cNvSpPr/>
            <p:nvPr/>
          </p:nvSpPr>
          <p:spPr>
            <a:xfrm>
              <a:off x="3276720" y="2352600"/>
              <a:ext cx="2468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6  123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77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"/>
            <p:cNvSpPr/>
            <p:nvPr/>
          </p:nvSpPr>
          <p:spPr>
            <a:xfrm>
              <a:off x="3949560" y="2438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9"/>
            <p:cNvSpPr/>
            <p:nvPr/>
          </p:nvSpPr>
          <p:spPr>
            <a:xfrm>
              <a:off x="3949560" y="2743200"/>
              <a:ext cx="1067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8" name="Group 10"/>
            <p:cNvGrpSpPr/>
            <p:nvPr/>
          </p:nvGrpSpPr>
          <p:grpSpPr>
            <a:xfrm>
              <a:off x="3308400" y="2739960"/>
              <a:ext cx="3549600" cy="825480"/>
              <a:chOff x="3308400" y="2739960"/>
              <a:chExt cx="3549600" cy="825480"/>
            </a:xfrm>
          </p:grpSpPr>
          <p:sp>
            <p:nvSpPr>
              <p:cNvPr id="559" name="Text Box 11"/>
              <p:cNvSpPr/>
              <p:nvPr/>
            </p:nvSpPr>
            <p:spPr>
              <a:xfrm>
                <a:off x="3308400" y="273996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4   13 = 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Line 12"/>
              <p:cNvSpPr/>
              <p:nvPr/>
            </p:nvSpPr>
            <p:spPr>
              <a:xfrm>
                <a:off x="3933720" y="282564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Line 13"/>
              <p:cNvSpPr/>
              <p:nvPr/>
            </p:nvSpPr>
            <p:spPr>
              <a:xfrm>
                <a:off x="3933720" y="312120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14"/>
            <p:cNvGrpSpPr/>
            <p:nvPr/>
          </p:nvGrpSpPr>
          <p:grpSpPr>
            <a:xfrm>
              <a:off x="3308400" y="3124080"/>
              <a:ext cx="3549600" cy="825480"/>
              <a:chOff x="3308400" y="3124080"/>
              <a:chExt cx="3549600" cy="825480"/>
            </a:xfrm>
          </p:grpSpPr>
          <p:sp>
            <p:nvSpPr>
              <p:cNvPr id="563" name="Text Box 15"/>
              <p:cNvSpPr/>
              <p:nvPr/>
            </p:nvSpPr>
            <p:spPr>
              <a:xfrm>
                <a:off x="3308400" y="3124080"/>
                <a:ext cx="35496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457200" indent="-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urier New"/>
                  </a:rPr>
                  <a:t>0   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16"/>
              <p:cNvSpPr/>
              <p:nvPr/>
            </p:nvSpPr>
            <p:spPr>
              <a:xfrm>
                <a:off x="3933720" y="3209760"/>
                <a:ext cx="180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Line 17"/>
              <p:cNvSpPr/>
              <p:nvPr/>
            </p:nvSpPr>
            <p:spPr>
              <a:xfrm>
                <a:off x="3933720" y="3505320"/>
                <a:ext cx="10382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5343-7021-41FC-8EDA-1153A257CE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Binary to Oct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7"/>
          <p:cNvSpPr/>
          <p:nvPr/>
        </p:nvSpPr>
        <p:spPr>
          <a:xfrm flipV="1">
            <a:off x="3809880" y="2743200"/>
            <a:ext cx="1752840" cy="144792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5C2-0605-4D98-87D9-EEAB2DBE89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Binary to Oct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Group bits in threes, starting on righ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nvert to octal digi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8790-921B-47AB-9A71-B6CCA3C94C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ampl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4"/>
          <p:cNvGrpSpPr/>
          <p:nvPr/>
        </p:nvGrpSpPr>
        <p:grpSpPr>
          <a:xfrm>
            <a:off x="3429000" y="2666880"/>
            <a:ext cx="4267080" cy="1622520"/>
            <a:chOff x="3429000" y="2666880"/>
            <a:chExt cx="4267080" cy="1622520"/>
          </a:xfrm>
        </p:grpSpPr>
        <p:sp>
          <p:nvSpPr>
            <p:cNvPr id="583" name="Text Box 5"/>
            <p:cNvSpPr/>
            <p:nvPr/>
          </p:nvSpPr>
          <p:spPr>
            <a:xfrm>
              <a:off x="3429000" y="2666880"/>
              <a:ext cx="4267080" cy="16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011 010 1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3   2   7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Courier New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Line 6"/>
            <p:cNvSpPr/>
            <p:nvPr/>
          </p:nvSpPr>
          <p:spPr>
            <a:xfrm>
              <a:off x="3549600" y="312408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Line 7"/>
            <p:cNvSpPr/>
            <p:nvPr/>
          </p:nvSpPr>
          <p:spPr>
            <a:xfrm>
              <a:off x="4235400" y="308628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"/>
            <p:cNvSpPr/>
            <p:nvPr/>
          </p:nvSpPr>
          <p:spPr>
            <a:xfrm>
              <a:off x="4921200" y="308628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9"/>
            <p:cNvSpPr/>
            <p:nvPr/>
          </p:nvSpPr>
          <p:spPr>
            <a:xfrm>
              <a:off x="5607000" y="308628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Text Box 10"/>
          <p:cNvSpPr/>
          <p:nvPr/>
        </p:nvSpPr>
        <p:spPr>
          <a:xfrm>
            <a:off x="4572000" y="54100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10101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32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C79A-38A4-4710-86F1-17E66860D9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Binary to Hexadecim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2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>
            <a:off x="3962520" y="4495680"/>
            <a:ext cx="1218960" cy="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8778-C7B3-4CBE-BA48-B442864D66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Binary to Hexadecim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Group bits in fours, starting on right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onvert to hexadecimal digi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CF26-E2E3-415D-BA17-F85F8C27E7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64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Example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3429000" y="2666880"/>
            <a:ext cx="42670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 1011 1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urier New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    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5"/>
          <p:cNvSpPr/>
          <p:nvPr/>
        </p:nvSpPr>
        <p:spPr>
          <a:xfrm>
            <a:off x="3581280" y="3086280"/>
            <a:ext cx="0" cy="68580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6"/>
          <p:cNvSpPr/>
          <p:nvPr/>
        </p:nvSpPr>
        <p:spPr>
          <a:xfrm>
            <a:off x="4495680" y="3086280"/>
            <a:ext cx="0" cy="68580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7"/>
          <p:cNvSpPr/>
          <p:nvPr/>
        </p:nvSpPr>
        <p:spPr>
          <a:xfrm>
            <a:off x="5410080" y="3086280"/>
            <a:ext cx="0" cy="68580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8"/>
          <p:cNvSpPr/>
          <p:nvPr/>
        </p:nvSpPr>
        <p:spPr>
          <a:xfrm>
            <a:off x="4648320" y="556272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101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B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A182-FBE6-4241-BB9A-B22B8D7C19A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Quantities/Counting (2 of 3) 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2209680" y="1371600"/>
          <a:ext cx="4724640" cy="455292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990720"/>
                <a:gridCol w="1219320"/>
              </a:tblGrid>
              <a:tr h="8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exa-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74C3-FEE7-45DA-9911-CC335F25DB64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Octal to Hexadecim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7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8c8c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B6FF-CD52-4418-BDF2-C8278A7BDC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Octal to Hexadecim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Use binary as an intermedia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689B-BA97-4BFC-9D5B-4EC88015E8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ampl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4"/>
          <p:cNvGrpSpPr/>
          <p:nvPr/>
        </p:nvGrpSpPr>
        <p:grpSpPr>
          <a:xfrm>
            <a:off x="3048120" y="2104920"/>
            <a:ext cx="4267080" cy="2785320"/>
            <a:chOff x="3048120" y="2104920"/>
            <a:chExt cx="4267080" cy="2785320"/>
          </a:xfrm>
        </p:grpSpPr>
        <p:sp>
          <p:nvSpPr>
            <p:cNvPr id="627" name="Text Box 5"/>
            <p:cNvSpPr/>
            <p:nvPr/>
          </p:nvSpPr>
          <p:spPr>
            <a:xfrm>
              <a:off x="3048120" y="2104920"/>
              <a:ext cx="426708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0     7    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1  000   111   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6"/>
            <p:cNvSpPr/>
            <p:nvPr/>
          </p:nvSpPr>
          <p:spPr>
            <a:xfrm>
              <a:off x="3429000" y="251460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7"/>
            <p:cNvSpPr/>
            <p:nvPr/>
          </p:nvSpPr>
          <p:spPr>
            <a:xfrm>
              <a:off x="5410080" y="251460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8"/>
            <p:cNvSpPr/>
            <p:nvPr/>
          </p:nvSpPr>
          <p:spPr>
            <a:xfrm>
              <a:off x="4343400" y="251460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9"/>
            <p:cNvSpPr/>
            <p:nvPr/>
          </p:nvSpPr>
          <p:spPr>
            <a:xfrm>
              <a:off x="6553080" y="251460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Group 10"/>
          <p:cNvGrpSpPr/>
          <p:nvPr/>
        </p:nvGrpSpPr>
        <p:grpSpPr>
          <a:xfrm>
            <a:off x="3505320" y="3317760"/>
            <a:ext cx="3276360" cy="1256760"/>
            <a:chOff x="3505320" y="3317760"/>
            <a:chExt cx="3276360" cy="1256760"/>
          </a:xfrm>
        </p:grpSpPr>
        <p:sp>
          <p:nvSpPr>
            <p:cNvPr id="633" name="Text Box 11"/>
            <p:cNvSpPr/>
            <p:nvPr/>
          </p:nvSpPr>
          <p:spPr>
            <a:xfrm>
              <a:off x="3505320" y="4114800"/>
              <a:ext cx="32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2     3       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12"/>
            <p:cNvSpPr/>
            <p:nvPr/>
          </p:nvSpPr>
          <p:spPr>
            <a:xfrm>
              <a:off x="551808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13"/>
            <p:cNvSpPr/>
            <p:nvPr/>
          </p:nvSpPr>
          <p:spPr>
            <a:xfrm>
              <a:off x="4222800" y="3317760"/>
              <a:ext cx="0" cy="106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Text Box 14"/>
          <p:cNvSpPr/>
          <p:nvPr/>
        </p:nvSpPr>
        <p:spPr>
          <a:xfrm>
            <a:off x="4724280" y="5638680"/>
            <a:ext cx="4267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07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23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18A3-2678-423B-8CC9-9CD47DDEBC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exadecimal to Oct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0" name="Oval 3"/>
          <p:cNvSpPr/>
          <p:nvPr/>
        </p:nvSpPr>
        <p:spPr>
          <a:xfrm>
            <a:off x="5325480" y="418068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4"/>
          <p:cNvSpPr/>
          <p:nvPr/>
        </p:nvSpPr>
        <p:spPr>
          <a:xfrm>
            <a:off x="12207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"/>
          <p:cNvSpPr/>
          <p:nvPr/>
        </p:nvSpPr>
        <p:spPr>
          <a:xfrm>
            <a:off x="5335560" y="19810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Oval 6"/>
          <p:cNvSpPr/>
          <p:nvPr/>
        </p:nvSpPr>
        <p:spPr>
          <a:xfrm>
            <a:off x="1220760" y="414324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9"/>
          <p:cNvSpPr/>
          <p:nvPr/>
        </p:nvSpPr>
        <p:spPr>
          <a:xfrm>
            <a:off x="6629400" y="2895480"/>
            <a:ext cx="0" cy="1143000"/>
          </a:xfrm>
          <a:prstGeom prst="line">
            <a:avLst/>
          </a:prstGeom>
          <a:ln w="57240">
            <a:solidFill>
              <a:srgbClr val="8c8c8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7579-3BE5-45DE-A63F-9567EC0F52D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exadecimal to Oct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chniq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Use binary as an intermedia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0F2F-A5F9-4B9B-A101-1AB538827F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ampl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2" name="Text Box 3"/>
          <p:cNvSpPr/>
          <p:nvPr/>
        </p:nvSpPr>
        <p:spPr>
          <a:xfrm>
            <a:off x="304920" y="137160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?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144"/>
          <p:cNvGrpSpPr/>
          <p:nvPr/>
        </p:nvGrpSpPr>
        <p:grpSpPr>
          <a:xfrm>
            <a:off x="3048120" y="2104920"/>
            <a:ext cx="4876560" cy="2785320"/>
            <a:chOff x="3048120" y="2104920"/>
            <a:chExt cx="4876560" cy="2785320"/>
          </a:xfrm>
        </p:grpSpPr>
        <p:sp>
          <p:nvSpPr>
            <p:cNvPr id="654" name="Text Box 124"/>
            <p:cNvSpPr/>
            <p:nvPr/>
          </p:nvSpPr>
          <p:spPr>
            <a:xfrm>
              <a:off x="3048120" y="2104920"/>
              <a:ext cx="4876560" cy="27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  F      0      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0001  1111   0000   1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Courier New"/>
                <a:buAutoNum type="arabicPlain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3581280" y="251460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5943600" y="251460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4648320" y="251460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32"/>
            <p:cNvSpPr/>
            <p:nvPr/>
          </p:nvSpPr>
          <p:spPr>
            <a:xfrm>
              <a:off x="7238880" y="2514600"/>
              <a:ext cx="0" cy="685800"/>
            </a:xfrm>
            <a:prstGeom prst="line">
              <a:avLst/>
            </a:prstGeom>
            <a:ln w="57240">
              <a:solidFill>
                <a:srgbClr val="8c8c8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Group 145"/>
          <p:cNvGrpSpPr/>
          <p:nvPr/>
        </p:nvGrpSpPr>
        <p:grpSpPr>
          <a:xfrm>
            <a:off x="3324240" y="3349800"/>
            <a:ext cx="4403880" cy="1148400"/>
            <a:chOff x="3324240" y="3349800"/>
            <a:chExt cx="4403880" cy="1148400"/>
          </a:xfrm>
        </p:grpSpPr>
        <p:sp>
          <p:nvSpPr>
            <p:cNvPr id="660" name="Text Box 133"/>
            <p:cNvSpPr/>
            <p:nvPr/>
          </p:nvSpPr>
          <p:spPr>
            <a:xfrm>
              <a:off x="3505320" y="4038480"/>
              <a:ext cx="42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1   7   4     1    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4"/>
            <p:cNvSpPr/>
            <p:nvPr/>
          </p:nvSpPr>
          <p:spPr>
            <a:xfrm>
              <a:off x="696600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5"/>
            <p:cNvSpPr/>
            <p:nvPr/>
          </p:nvSpPr>
          <p:spPr>
            <a:xfrm>
              <a:off x="5880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40"/>
            <p:cNvSpPr/>
            <p:nvPr/>
          </p:nvSpPr>
          <p:spPr>
            <a:xfrm>
              <a:off x="47782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41"/>
            <p:cNvSpPr/>
            <p:nvPr/>
          </p:nvSpPr>
          <p:spPr>
            <a:xfrm>
              <a:off x="403848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42"/>
            <p:cNvSpPr/>
            <p:nvPr/>
          </p:nvSpPr>
          <p:spPr>
            <a:xfrm>
              <a:off x="3324240" y="33498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Text Box 143"/>
          <p:cNvSpPr/>
          <p:nvPr/>
        </p:nvSpPr>
        <p:spPr>
          <a:xfrm>
            <a:off x="4648320" y="5638680"/>
            <a:ext cx="426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F0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7414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D08E-9942-4F82-9722-4A46912B7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ercise – Convert ...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grpSp>
        <p:nvGrpSpPr>
          <p:cNvPr id="670" name="Group 61"/>
          <p:cNvGrpSpPr/>
          <p:nvPr/>
        </p:nvGrpSpPr>
        <p:grpSpPr>
          <a:xfrm>
            <a:off x="3127680" y="4876920"/>
            <a:ext cx="2971080" cy="459720"/>
            <a:chOff x="3127680" y="4876920"/>
            <a:chExt cx="2971080" cy="459720"/>
          </a:xfrm>
        </p:grpSpPr>
        <p:sp>
          <p:nvSpPr>
            <p:cNvPr id="671" name="Text Box 59"/>
            <p:cNvSpPr/>
            <p:nvPr/>
          </p:nvSpPr>
          <p:spPr>
            <a:xfrm>
              <a:off x="3127680" y="4876920"/>
              <a:ext cx="29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on’t use a calculator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Line 60"/>
            <p:cNvSpPr/>
            <p:nvPr/>
          </p:nvSpPr>
          <p:spPr>
            <a:xfrm>
              <a:off x="3200400" y="5293080"/>
              <a:ext cx="2819520" cy="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73" name=""/>
          <p:cNvGraphicFramePr/>
          <p:nvPr/>
        </p:nvGraphicFramePr>
        <p:xfrm>
          <a:off x="1295280" y="1397160"/>
          <a:ext cx="6858000" cy="317484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714680"/>
                <a:gridCol w="1714320"/>
              </a:tblGrid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a-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98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98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98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998e3"/>
                    </a:solidFill>
                  </a:tcPr>
                </a:tc>
              </a:tr>
            </a:tbl>
          </a:graphicData>
        </a:graphic>
      </p:graphicFrame>
      <p:sp>
        <p:nvSpPr>
          <p:cNvPr id="674" name="AutoShape 101">
            <a:hlinkClick r:id="rId1" action="ppaction://hlinksldjump"/>
          </p:cNvPr>
          <p:cNvSpPr/>
          <p:nvPr/>
        </p:nvSpPr>
        <p:spPr>
          <a:xfrm>
            <a:off x="5805720" y="5563800"/>
            <a:ext cx="1748880" cy="528120"/>
          </a:xfrm>
          <a:custGeom>
            <a:avLst/>
            <a:gdLst>
              <a:gd name="textAreaLeft" fmla="*/ 34200 w 1748880"/>
              <a:gd name="textAreaRight" fmla="*/ 1714680 w 17488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71495" h="21600">
                <a:moveTo>
                  <a:pt x="0" y="0"/>
                </a:moveTo>
                <a:lnTo>
                  <a:pt x="71495" y="0"/>
                </a:lnTo>
                <a:lnTo>
                  <a:pt x="71495" y="21600"/>
                </a:lnTo>
                <a:lnTo>
                  <a:pt x="0" y="21600"/>
                </a:lnTo>
                <a:close/>
              </a:path>
              <a:path fill="lightenLess" w="71495" h="21600">
                <a:moveTo>
                  <a:pt x="0" y="0"/>
                </a:moveTo>
                <a:lnTo>
                  <a:pt x="71495" y="0"/>
                </a:lnTo>
                <a:lnTo>
                  <a:pt x="70095" y="1400"/>
                </a:lnTo>
                <a:lnTo>
                  <a:pt x="1400" y="1400"/>
                </a:lnTo>
                <a:close/>
              </a:path>
              <a:path fill="darken" w="71495" h="21600">
                <a:moveTo>
                  <a:pt x="71495" y="0"/>
                </a:moveTo>
                <a:lnTo>
                  <a:pt x="71495" y="21600"/>
                </a:lnTo>
                <a:lnTo>
                  <a:pt x="70095" y="20200"/>
                </a:lnTo>
                <a:lnTo>
                  <a:pt x="70095" y="1400"/>
                </a:lnTo>
                <a:close/>
              </a:path>
              <a:path fill="darkenLess" w="71495" h="21600">
                <a:moveTo>
                  <a:pt x="71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095" y="20200"/>
                </a:lnTo>
                <a:close/>
              </a:path>
              <a:path fill="lighten" w="71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p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AutoShape 102">
            <a:hlinkClick r:id="" action="ppaction://hlinkshowjump?jump=nextslide"/>
          </p:cNvPr>
          <p:cNvSpPr/>
          <p:nvPr/>
        </p:nvSpPr>
        <p:spPr>
          <a:xfrm>
            <a:off x="7786800" y="5566680"/>
            <a:ext cx="1197000" cy="528120"/>
          </a:xfrm>
          <a:custGeom>
            <a:avLst/>
            <a:gdLst>
              <a:gd name="textAreaLeft" fmla="*/ 34200 w 1197000"/>
              <a:gd name="textAreaRight" fmla="*/ 1162800 w 1197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8938" h="21600">
                <a:moveTo>
                  <a:pt x="0" y="0"/>
                </a:moveTo>
                <a:lnTo>
                  <a:pt x="48938" y="0"/>
                </a:lnTo>
                <a:lnTo>
                  <a:pt x="48938" y="21600"/>
                </a:lnTo>
                <a:lnTo>
                  <a:pt x="0" y="21600"/>
                </a:lnTo>
                <a:close/>
              </a:path>
              <a:path fill="lightenLess" w="48938" h="21600">
                <a:moveTo>
                  <a:pt x="0" y="0"/>
                </a:moveTo>
                <a:lnTo>
                  <a:pt x="48938" y="0"/>
                </a:lnTo>
                <a:lnTo>
                  <a:pt x="47538" y="1400"/>
                </a:lnTo>
                <a:lnTo>
                  <a:pt x="1400" y="1400"/>
                </a:lnTo>
                <a:close/>
              </a:path>
              <a:path fill="darken" w="48938" h="21600">
                <a:moveTo>
                  <a:pt x="48938" y="0"/>
                </a:moveTo>
                <a:lnTo>
                  <a:pt x="48938" y="21600"/>
                </a:lnTo>
                <a:lnTo>
                  <a:pt x="47538" y="20200"/>
                </a:lnTo>
                <a:lnTo>
                  <a:pt x="47538" y="1400"/>
                </a:lnTo>
                <a:close/>
              </a:path>
              <a:path fill="darkenLess" w="48938" h="21600">
                <a:moveTo>
                  <a:pt x="48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538" y="20200"/>
                </a:lnTo>
                <a:close/>
              </a:path>
              <a:path fill="lighten" w="48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6891-2EC6-46D0-96E9-220107BE159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60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Exercise – Convert …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1295280" y="1397160"/>
          <a:ext cx="6858000" cy="317484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714680"/>
                <a:gridCol w="1714320"/>
              </a:tblGrid>
              <a:tr h="104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n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a-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98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1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98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00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2998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01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A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2998e3"/>
                    </a:solidFill>
                  </a:tcPr>
                </a:tc>
              </a:tr>
            </a:tbl>
          </a:graphicData>
        </a:graphic>
      </p:graphicFrame>
      <p:sp>
        <p:nvSpPr>
          <p:cNvPr id="680" name="AutoShape 44"/>
          <p:cNvSpPr/>
          <p:nvPr/>
        </p:nvSpPr>
        <p:spPr>
          <a:xfrm>
            <a:off x="4191120" y="51055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47"/>
          <p:cNvSpPr/>
          <p:nvPr/>
        </p:nvSpPr>
        <p:spPr>
          <a:xfrm>
            <a:off x="222120" y="904320"/>
            <a:ext cx="8699760" cy="3042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3EF9-5A56-4F5E-BC08-430F7B87A3A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ndara"/>
              </a:rPr>
              <a:t>Binary Arithmetic: Addition &amp; Subtraction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685" name=""/>
          <p:cNvGraphicFramePr/>
          <p:nvPr/>
        </p:nvGraphicFramePr>
        <p:xfrm>
          <a:off x="793800" y="1447920"/>
          <a:ext cx="7543800" cy="18540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+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</a:tr>
            </a:tbl>
          </a:graphicData>
        </a:graphic>
      </p:graphicFrame>
      <p:sp>
        <p:nvSpPr>
          <p:cNvPr id="686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324E-0041-49D2-8587-3DCF90A133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812880" y="3886200"/>
          <a:ext cx="7543800" cy="185436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-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Candara"/>
              </a:rPr>
              <a:t>Binary Arithmetic: Multiplication &amp; Division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793800" y="1447920"/>
          <a:ext cx="7543800" cy="18540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X*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d582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1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ae8"/>
                    </a:solidFill>
                  </a:tcPr>
                </a:tc>
              </a:tr>
            </a:tbl>
          </a:graphicData>
        </a:graphic>
      </p:graphicFrame>
      <p:sp>
        <p:nvSpPr>
          <p:cNvPr id="691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F197-E654-452D-8E16-DA540608F6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Quantities/Counting (3 of 3) 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2209680" y="1371600"/>
          <a:ext cx="4724640" cy="4552920"/>
        </p:xfrm>
        <a:graphic>
          <a:graphicData uri="http://schemas.openxmlformats.org/drawingml/2006/table">
            <a:tbl>
              <a:tblPr/>
              <a:tblGrid>
                <a:gridCol w="1371600"/>
                <a:gridCol w="1143000"/>
                <a:gridCol w="990720"/>
                <a:gridCol w="1219320"/>
              </a:tblGrid>
              <a:tr h="895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in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c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Hexa-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1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 Box 61"/>
          <p:cNvSpPr/>
          <p:nvPr/>
        </p:nvSpPr>
        <p:spPr>
          <a:xfrm>
            <a:off x="7155360" y="5410080"/>
            <a:ext cx="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ECA1-4D0B-499F-90BB-34EC69B3C465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62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Boolean Algebra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85440" y="121932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50280" indent="-3502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The digital circuits present in a digital computer are designed using a mathematical discipline known as Boolean Algebr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t describes the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relationship between the inputs and outputs 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f a digital circuit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oolean Algebra was named in honor of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Gorge Boole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, an English Mathematician, who had proposed the basic principles of thi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ndara"/>
              </a:rPr>
              <a:t>Objective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oolean Algebra is used mainly by design engineers in order to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obtain the required output by using least number of logic gate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50280" indent="-3502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e4831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5FF4-BD45-4C48-816A-3B7063C3D2A8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1880" y="533520"/>
            <a:ext cx="754380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Components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821880" y="1447560"/>
            <a:ext cx="7543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Like any other algebra, Boolean Algebra also uses variables and operation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 Boolean variable has only two possible values which is either true (1) or false (0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asic Boolean operations are: AND, OR and NO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8A06-68B3-4E57-8A0F-CDF8E1CE6896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Basic Logical Operation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61760" y="137160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All these three basic logical operations can be represented symbolically a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A  AND  B = A . B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A   OR   B = A + B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NOT A      = A’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hese operations can be defined in a form known as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Truth Table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, which s a list of all possible input values and the output for each input combination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3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0A1-DDDE-404A-B473-C45512D57AD3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457200"/>
            <a:ext cx="7543800" cy="79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Truth Table for AND Operator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ruth Table for a 2-input AND Operator is as follow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1523880" y="243828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solidFill>
                      <a:srgbClr val="9b83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solidFill>
                      <a:srgbClr val="9b83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Y = A .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solidFill>
                      <a:srgbClr val="9b835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338C-F208-4074-BDA7-8BE2010ECE7D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Truth Table for OR Operator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ruth Table for a 2-input OR Operator is as follow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00200" y="243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solidFill>
                      <a:srgbClr val="9b83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solidFill>
                      <a:srgbClr val="9b83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Y = A +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solidFill>
                      <a:srgbClr val="9b8357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3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CFF6-3BC8-4949-8D15-BF57962D2B24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Truth Table for NOT Operator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Truth Table for NOT Operator is as follow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717" name=""/>
          <p:cNvGraphicFramePr/>
          <p:nvPr/>
        </p:nvGraphicFramePr>
        <p:xfrm>
          <a:off x="2438280" y="2362320"/>
          <a:ext cx="4064040" cy="1112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solidFill>
                      <a:srgbClr val="9b835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Y = A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solidFill>
                      <a:srgbClr val="9b835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b8357"/>
                      </a:solidFill>
                    </a:lnL>
                    <a:lnR>
                      <a:noFill/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b8357"/>
                      </a:solidFill>
                    </a:lnR>
                    <a:lnT w="5760">
                      <a:solidFill>
                        <a:srgbClr val="9b8357"/>
                      </a:solidFill>
                    </a:lnT>
                    <a:lnB w="5760">
                      <a:solidFill>
                        <a:srgbClr val="9b835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8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8A85-BF78-4D8E-B9D0-BE98AED2C7FB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77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ndara"/>
              </a:rPr>
              <a:t>Logic Gate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783720" y="129492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85680" indent="-856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In electronics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, a logic gate is an idealized or physical device implementing a Boolean function</a:t>
            </a: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; that is, </a:t>
            </a:r>
            <a:r>
              <a:rPr b="1" i="1" lang="en-US" sz="2000" spc="-1" strike="noStrike">
                <a:solidFill>
                  <a:srgbClr val="000000"/>
                </a:solidFill>
                <a:latin typeface="Candara"/>
              </a:rPr>
              <a:t>it performs a logical operation on one or more logical inputs, and produces a single logical output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46B8-7339-4ED9-BC10-04F6719CAB52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2" descr="C:\Users\acer\Desktop\How-Logic-Gates-Work-3.bmp"/>
          <p:cNvPicPr/>
          <p:nvPr/>
        </p:nvPicPr>
        <p:blipFill>
          <a:blip r:embed="rId1"/>
          <a:stretch/>
        </p:blipFill>
        <p:spPr>
          <a:xfrm>
            <a:off x="3695760" y="2286000"/>
            <a:ext cx="47242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ndara"/>
              </a:rPr>
              <a:t>Thank you</a:t>
            </a:r>
            <a:br>
              <a:rPr sz="4800"/>
            </a:br>
            <a:br>
              <a:rPr sz="4800"/>
            </a:br>
            <a:r>
              <a:rPr b="1" lang="en-US" sz="1600" spc="-1" strike="noStrike">
                <a:solidFill>
                  <a:srgbClr val="404040"/>
                </a:solidFill>
                <a:latin typeface="Candara"/>
              </a:rPr>
              <a:t>(Courtesy: Dept. of IT, York University)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62B1-A1F3-42F4-AADD-2648EFC46460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533160"/>
            <a:ext cx="7543800" cy="74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ndara"/>
              </a:rPr>
              <a:t>Conversion Among Bases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ndara"/>
              </a:rPr>
              <a:t>The possibilities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Oval 4"/>
          <p:cNvSpPr/>
          <p:nvPr/>
        </p:nvSpPr>
        <p:spPr>
          <a:xfrm>
            <a:off x="5373360" y="4804560"/>
            <a:ext cx="2437920" cy="56376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Hexa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"/>
          <p:cNvSpPr/>
          <p:nvPr/>
        </p:nvSpPr>
        <p:spPr>
          <a:xfrm>
            <a:off x="1220760" y="251460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Dec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6"/>
          <p:cNvSpPr/>
          <p:nvPr/>
        </p:nvSpPr>
        <p:spPr>
          <a:xfrm>
            <a:off x="5335560" y="251460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Oc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7"/>
          <p:cNvSpPr/>
          <p:nvPr/>
        </p:nvSpPr>
        <p:spPr>
          <a:xfrm>
            <a:off x="1220760" y="467676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ndara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8"/>
          <p:cNvSpPr/>
          <p:nvPr/>
        </p:nvSpPr>
        <p:spPr>
          <a:xfrm flipV="1">
            <a:off x="3733920" y="3076560"/>
            <a:ext cx="1676160" cy="175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9"/>
          <p:cNvSpPr/>
          <p:nvPr/>
        </p:nvSpPr>
        <p:spPr>
          <a:xfrm flipH="1" flipV="1">
            <a:off x="3733920" y="3076560"/>
            <a:ext cx="1676160" cy="1752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10"/>
          <p:cNvSpPr/>
          <p:nvPr/>
        </p:nvSpPr>
        <p:spPr>
          <a:xfrm flipV="1">
            <a:off x="6629400" y="338148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1"/>
          <p:cNvSpPr/>
          <p:nvPr/>
        </p:nvSpPr>
        <p:spPr>
          <a:xfrm flipV="1">
            <a:off x="2438280" y="330480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2"/>
          <p:cNvSpPr/>
          <p:nvPr/>
        </p:nvSpPr>
        <p:spPr>
          <a:xfrm>
            <a:off x="3962520" y="284796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13"/>
          <p:cNvSpPr/>
          <p:nvPr/>
        </p:nvSpPr>
        <p:spPr>
          <a:xfrm>
            <a:off x="3962520" y="505764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ndara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EF57-866A-4FA6-BDD7-E3A0386EBB6A}" type="slidenum">
              <a:rPr b="0" lang="en-US" sz="10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1880" y="60912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ndara"/>
              </a:rPr>
              <a:t>Quick Exampl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1219320" y="2971800"/>
            <a:ext cx="6705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11001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31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19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133720" y="4495680"/>
            <a:ext cx="1295280" cy="533520"/>
          </a:xfrm>
          <a:prstGeom prst="wedgeRoundRectCallout">
            <a:avLst>
              <a:gd name="adj1" fmla="val -40439"/>
              <a:gd name="adj2" fmla="val -165773"/>
              <a:gd name="adj3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15E-5791-436B-9BDC-E2938C628B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ndara"/>
              </a:rPr>
              <a:t>Decimal to Decimal (just for fun)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Oval 3"/>
          <p:cNvSpPr/>
          <p:nvPr/>
        </p:nvSpPr>
        <p:spPr>
          <a:xfrm>
            <a:off x="5325480" y="4713840"/>
            <a:ext cx="2533320" cy="64980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xa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4"/>
          <p:cNvSpPr/>
          <p:nvPr/>
        </p:nvSpPr>
        <p:spPr>
          <a:xfrm>
            <a:off x="1220760" y="254952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Oval 5"/>
          <p:cNvSpPr/>
          <p:nvPr/>
        </p:nvSpPr>
        <p:spPr>
          <a:xfrm>
            <a:off x="5335560" y="254952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1220760" y="4711680"/>
            <a:ext cx="2513160" cy="66672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4"/>
          <p:cNvSpPr/>
          <p:nvPr/>
        </p:nvSpPr>
        <p:spPr>
          <a:xfrm>
            <a:off x="1905120" y="1447920"/>
            <a:ext cx="990360" cy="977760"/>
          </a:xfrm>
          <a:custGeom>
            <a:avLst/>
            <a:gdLst/>
            <a:ahLst/>
            <a:rect l="l" t="t" r="r" b="b"/>
            <a:pathLst>
              <a:path w="624" h="616">
                <a:moveTo>
                  <a:pt x="240" y="616"/>
                </a:moveTo>
                <a:cubicBezTo>
                  <a:pt x="240" y="616"/>
                  <a:pt x="0" y="88"/>
                  <a:pt x="192" y="88"/>
                </a:cubicBezTo>
                <a:cubicBezTo>
                  <a:pt x="248" y="0"/>
                  <a:pt x="528" y="0"/>
                  <a:pt x="576" y="88"/>
                </a:cubicBezTo>
                <a:cubicBezTo>
                  <a:pt x="624" y="176"/>
                  <a:pt x="500" y="506"/>
                  <a:pt x="480" y="616"/>
                </a:cubicBezTo>
              </a:path>
            </a:pathLst>
          </a:custGeom>
          <a:noFill/>
          <a:ln w="57240">
            <a:solidFill>
              <a:srgbClr val="8c8c8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5"/>
          <p:cNvSpPr/>
          <p:nvPr/>
        </p:nvSpPr>
        <p:spPr>
          <a:xfrm>
            <a:off x="7798320" y="579132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 slide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3A6D-547A-45E4-B75A-3253AFD73A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1752480" y="2362320"/>
            <a:ext cx="6019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  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 2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1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3"/>
          <p:cNvSpPr/>
          <p:nvPr/>
        </p:nvSpPr>
        <p:spPr>
          <a:xfrm>
            <a:off x="5715000" y="35053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4"/>
          <p:cNvSpPr/>
          <p:nvPr/>
        </p:nvSpPr>
        <p:spPr>
          <a:xfrm>
            <a:off x="3505320" y="4343400"/>
            <a:ext cx="990360" cy="762120"/>
          </a:xfrm>
          <a:prstGeom prst="wedgeRoundRectCallout">
            <a:avLst>
              <a:gd name="adj1" fmla="val 51282"/>
              <a:gd name="adj2" fmla="val -145208"/>
              <a:gd name="adj3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5"/>
          <p:cNvSpPr/>
          <p:nvPr/>
        </p:nvSpPr>
        <p:spPr>
          <a:xfrm>
            <a:off x="4800600" y="1143000"/>
            <a:ext cx="1295280" cy="762120"/>
          </a:xfrm>
          <a:prstGeom prst="wedgeRoundRectCallout">
            <a:avLst>
              <a:gd name="adj1" fmla="val -41421"/>
              <a:gd name="adj2" fmla="val 107291"/>
              <a:gd name="adj3" fmla="val 16667"/>
            </a:avLst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ooter Placeholder 1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PRESENTED BY MD. MAHBUBUL ALAM, PH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D1CE-E7EF-4B43-B488-E11C85AAAF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7T13:05:28Z</dcterms:created>
  <dc:creator>Scott MacKenzie</dc:creator>
  <dc:description/>
  <dc:language>en-US</dc:language>
  <cp:lastModifiedBy>mmalam</cp:lastModifiedBy>
  <cp:lastPrinted>1998-09-16T11:34:06Z</cp:lastPrinted>
  <dcterms:modified xsi:type="dcterms:W3CDTF">2015-06-15T04:40:47Z</dcterms:modified>
  <cp:revision>115</cp:revision>
  <dc:subject/>
  <dc:title>Number Systems</dc:title>
</cp:coreProperties>
</file>